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9E9-8181-48A4-B287-9CA071B1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557-0899-4346-96A8-A650B188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073-0C8B-4993-885E-E43192C1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DE2-130A-4C9E-875F-0664F89D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50C8-7BC7-4DCE-94C6-4339C059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3B1-0F06-4342-A115-62881A3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4623-F2D3-43FA-8668-C93795A5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2420-12F4-4A97-9CCA-A7B63D3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7BBF-A1D6-4E85-AD16-EF272F76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794-68B7-4E11-A5E3-BD07A5D7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98D-C48E-492D-B963-769A82A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78A-3E5D-4CD0-9627-7B520CF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F7AA-4353-4518-A7EA-0A9EE65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DDE-05C0-427D-A9DC-B28B614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DFE-3D7C-489A-89FD-D058FA9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B2B9-136D-44F7-80D6-7D622791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3311-8263-40EA-A422-DFDE6F95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A24-860E-4D32-A22B-51D02D9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4D6-D287-4428-BC9E-DB58915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81D-FC55-42C1-8BF0-1F6408BC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FDE-E11C-49B8-BC55-81A04E77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5A1-E72D-4591-B1B7-582D860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8EC-23A6-4FE8-A8F2-F147945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23E-D39C-4873-AC18-75F5CB2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C7C2-82B9-49DB-8545-0B8EB975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55B-00D4-4DEC-A953-5BDDB23D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ikforum.de/zzz_history_gr/Geraete/vasculator3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EHA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oljenja arterijskog krvotoka, varikoziteti,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ske povrede, neuralgije, ed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ra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mofilija, trudnoća, antikoagulant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rap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rce šalje ćelijama organizma prečišćenu, oksigenisanu i punu hranljivih mater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v arter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arterio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arterijski kapil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u organima i periferiji organizma. Na tom nivou se vrši razmena hranljivih materija i kiseonika s jedne, i štetnih produkata metabolizma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s druge st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ko 60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 je vo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40%  unutar ćelija, a 15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ćelijska tečnost,5% u krv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udov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e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70 kg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 42 kg v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stoj u razmeni tečnost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češće deša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 periferij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nevna izmena iznosi oko 4000 litar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oljno je i da se i za samo 0.5 % promene pritisci koji utiču na konverzij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pa da se stvori 20 litara viška v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poremećaja periferne cirkul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d postojanja velikih otoka na ekstremiteti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at radi na principu prime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tiska i potisk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uje se na gornje i donje ektremit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e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oka, poboljšanja limfne drenaž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pravlja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rkulacije u ekstremite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ndikacije za vakusak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terioskleroze, pušačkih nogu, dijabetičnog stopala, limfedema, otoka, proširenih vena i kapilara, slabe cirkul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rasta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a, ulku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is, sport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vr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dekove distrofije, gihta, celulopatije, reumatizma, gojaznosti, osteoporoz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1" name="Picture 4" descr="IMG_0030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vakusak"/>
          <p:cNvPicPr/>
          <p:nvPr/>
        </p:nvPicPr>
        <p:blipFill>
          <a:blip r:embed="rId1"/>
          <a:srcRect l="5311" t="0" r="6045" b="4110"/>
          <a:stretch/>
        </p:blipFill>
        <p:spPr>
          <a:xfrm>
            <a:off x="2819520" y="838080"/>
            <a:ext cx="572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vacusac.JPG"/>
          <p:cNvPicPr/>
          <p:nvPr/>
        </p:nvPicPr>
        <p:blipFill>
          <a:blip r:embed="rId1"/>
          <a:stretch/>
        </p:blipFill>
        <p:spPr>
          <a:xfrm>
            <a:off x="2514600" y="2133720"/>
            <a:ext cx="632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Vaskulato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9" name="Picture 8" descr="vasculat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60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skulator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izmenično povećanje i snižavanje pritiska u cilindrima u kojima se nalaze ekstremite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ža krvnih sudova i poboljšava elastičnost njihovih zidova</a:t>
            </a:r>
            <a:endParaRPr b="0" i="1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31" name="Picture 4" descr="vaskulator.JPG"/>
          <p:cNvPicPr/>
          <p:nvPr/>
        </p:nvPicPr>
        <p:blipFill>
          <a:blip r:embed="rId1"/>
          <a:stretch/>
        </p:blipFill>
        <p:spPr>
          <a:xfrm>
            <a:off x="380880" y="2057400"/>
            <a:ext cx="63658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odela meha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e terapijske tehnike (manipula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enzione procedure (tr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(infrazvuk i ultrazv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ip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6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5105520" cy="3810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40" name="Content Placeholder 3" descr="dp_latcutaway-BB"/>
          <p:cNvPicPr/>
          <p:nvPr/>
        </p:nvPicPr>
        <p:blipFill>
          <a:blip r:embed="rId1"/>
          <a:srcRect l="0" t="0" r="7143" b="0"/>
          <a:stretch/>
        </p:blipFill>
        <p:spPr>
          <a:xfrm>
            <a:off x="914400" y="609480"/>
            <a:ext cx="6016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42" name="Picture 2" descr="C:\Documents and Settings\Info\Desktop\Diskus.jpg"/>
          <p:cNvPicPr/>
          <p:nvPr/>
        </p:nvPicPr>
        <p:blipFill>
          <a:blip r:embed="rId1"/>
          <a:stretch/>
        </p:blipFill>
        <p:spPr>
          <a:xfrm>
            <a:off x="1600200" y="533520"/>
            <a:ext cx="440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discus herniae za promociju"/>
          <p:cNvPicPr/>
          <p:nvPr/>
        </p:nvPicPr>
        <p:blipFill>
          <a:blip r:embed="rId1"/>
          <a:srcRect l="0" t="44391" r="42357" b="0"/>
          <a:stretch/>
        </p:blipFill>
        <p:spPr>
          <a:xfrm>
            <a:off x="468360" y="2205000"/>
            <a:ext cx="3309840" cy="424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discus herniae za promociju"/>
          <p:cNvPicPr/>
          <p:nvPr/>
        </p:nvPicPr>
        <p:blipFill>
          <a:blip r:embed="rId2"/>
          <a:srcRect l="5909" t="8313" r="0" b="35115"/>
          <a:stretch/>
        </p:blipFill>
        <p:spPr>
          <a:xfrm>
            <a:off x="3843360" y="1557360"/>
            <a:ext cx="4957920" cy="3959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мбална дискус хернија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Right Triangle 1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778200" y="4076640"/>
            <a:ext cx="17305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manuelnoj medicini osnovni pojam je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funkcionalna bloka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om se narušava “igra zglobo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subluksacije (Pal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ticaja degenerativnih promena (Sirijak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klještenih meniskoida (Eminiger i K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orefleksna (Dvorž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urorefleksna teorija (Dvorž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pravilan položaj i opretećenje kičme–iritacija mehanoreceptora tip I – povećan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onus i pojava 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miotendinoz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fibrozni  čvorići i trake u mišićima i tetivama) – bol i spazam mišića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manipulacijom se koriguje nepravilan  funkcionalan položaj i draže mehanoreceptori tipa II – oslobađanje enkefalina – smanjuje se bol i spaz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obavezna premanipulativna dijagnostika uz R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liza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erija ritmičnih pokreta u blokiranom zglobu do maksimalne pasivne pokretljiv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male brzine-velike amplitu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mostalno ili kao priprema za manipul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pulaci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jednokratan, oštar, relativno nasilan pokret u blokiranom zglobu, koji ne sme da pređe njegovu anatomsku barij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velike brzine-male amplu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 (tehnika kratk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pršljenskih nastav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ndirektna (tehnika dug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ruku, ramena, karlice ili noge deluje se na kič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indikacija je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funkcionalna blokada zglobo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i to II step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kil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ška i boln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a blo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mobilnost (kontraindikov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Barokomo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7" name="Picture 4" descr="hbo-medical-center-07.jpg"/>
          <p:cNvPicPr/>
          <p:nvPr/>
        </p:nvPicPr>
        <p:blipFill>
          <a:blip r:embed="rId1"/>
          <a:stretch/>
        </p:blipFill>
        <p:spPr>
          <a:xfrm>
            <a:off x="1371600" y="2057400"/>
            <a:ext cx="6524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Kontraindikacije </a:t>
            </a:r>
            <a:br>
              <a:rPr sz="4000"/>
            </a:b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za manuelne tehnike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,sveži,, prelomi i luks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gn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omalije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e discus her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B insuficij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sihički poremeć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cizn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rdure kod jakog sp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forsirati jako bolne i ograničene pok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os iz vremena Hipokrata različi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stezan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bog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bola u kič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d tog vremena pa do pre 25 god nalazimo različite vidove spinalne trak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teratura je uglavnom nekompletn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razmimoilaženj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u opisu tehnike,  trajanja, sile i dovela su do zabune i smanjila interes za korišćenje spinalne trakcije kao vida terap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ta od Hipokrata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riax od 19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23880" y="220968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slednjih  godina poraslo je interesovanje za korišćenje trakcije, tražena su i nađena nova rešenja, konstruisani su novi, moderni aparati, tako da se “istezanje kičme” uz ostale fizikalne procedure danas koristi kao e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kas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ni način lečenja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kstenziona terapija (trakcij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ivna kineziterapijska metoda koja se sastoji u istezanju-trakciji, određenih delova tela primenom mehaničk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će se koristi za kič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iv prostora z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1,5 do 2,5 m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irenje medjupršljenskih otvo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iritacije nervnih elemenata i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70" name="Picture 2" descr="C:\Documents and Settings\Info\Desktop\trak.jpg"/>
          <p:cNvPicPr/>
          <p:nvPr/>
        </p:nvPicPr>
        <p:blipFill>
          <a:blip r:embed="rId1"/>
          <a:stretch/>
        </p:blipFill>
        <p:spPr>
          <a:xfrm>
            <a:off x="2209680" y="457200"/>
            <a:ext cx="5257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kcija slabinske  kičm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trakcije-mesto izvodjen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postelji po metodi V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dna istezanja po Moll-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tik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baze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rizont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ad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gibna;voda 38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ezanje distrakcionim stolicama i sto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en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nikovog tela u odredjene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toku aktivnih kineziterapijskih 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otrakc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tolovi i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u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2 do 4 ploče, ko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azmiče elektromo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bično se izvodi u ležećem položaju na leđima, pr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ge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ek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rane u kukovima i kolenima, a potkolenice postavljene na posebnu platformu koja može da se pome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zravnanj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 relaksacija paravertebralne muskulature. Pomoću pojaseva fiksiraju se grudni koš i karl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ema dejstvu sil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jna:u krevetu, nekoliko sati dnevno,više d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inuirana (statička) istom trakcionom si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rmitentna 15-60 s/30-60 s 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kcesivno progresiv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Efekti hiperbarične oksigena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snabdevenost svih tkivnih tečnosti kiseoni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anički efekat povećanog prit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cija ugljenmonok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nje mikrocirkulacije i smanjenje edema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akterijski ef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Efekti mehaničke 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faset (apofiznih)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tela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tezanje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cija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bilizacija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,Metod izbora malih protruzija DH,, Syri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avila izvođenj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dure sa analgetskim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ntnim dejst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lna fiksacija okolnih segmenata (direktno postavljeni kajše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epeno povećanja trakcion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lesnik leži još 20-3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ožaji:pronirani i supinirani ležeći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deći za vratnu kičm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UVEK individ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a vratn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če za fiksiranje preko donje vilice i potilj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1-C2 0-5 step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2-C3 10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5-C7 25-35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iniranog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manja si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razmicanj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gurnost,s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ClipArt Placeholder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533520" y="380880"/>
            <a:ext cx="350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Doziranje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ličina trakcione sile,vreme trajanja,broj tretmana..progresivno,menja se u toku le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ervikalna 5-15 min, 10-150 N (1/6-1/4 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%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umbalna 10-30 min, 200-900 N (1/3-1/2 TT)                                       do 50%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0-20 dana svakodnevno;prekid posle 7 ako ne donosi poboljš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ere oprez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glo primenjena sila povećava spazam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ežano disanje i prekordijalni bol od kaj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jačanje postojećeg bola usled neadekvatne tehn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rezno kod:akutnog bola u vratu u ledjim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ojaznosti, klaustrofobije, dezorijentacije, stanja posle operacije kičm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H sa indikacijom za operativno lečenje (medijalna DH, kompresija k.m, deplasman anularnog fragmenta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ostij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inf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, RA, duga terapija 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rakture i subluksacije pršlje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ipermobilnost i nestabilnost pršlje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rčane dekompen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udnoća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funkcionalne blokade, protru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t 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 iliolum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enje iv ot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 ili iritacija spinalnih ne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enerativna oboljenja kič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tne traumatske periferne ishemije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h povred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artment sy, opekotine smrzotine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ferna vaskularn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eriosclerosis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bangiti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e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iopathia diabetic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abetično stop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matološk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oartroz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oroz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ja pos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povreda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opedska oboljenja: Osteomyelitis chr, pre i nakon atroplastike kuka i kolena (naročito kod dijabetič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ška oboljenja: neuropatije, neuritis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d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nja posle CV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posttraumats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ize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ze, teži oblici mig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ljadu godi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Kinezi stavljaljem kupic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od kojih je bio negativni pritisa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tirali odredjena va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bol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. u Nemačkoj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mass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warschik objasnio način de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primena u Dansk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“Vacusac” i “Vascu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pobarič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i deo j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klena kup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e postavlja na od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tela n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finskim ul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la je specijalan filc koji propušta vazduh, a spolja je košulja ili čizma koja ne propušta vazdu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akum pumpe iz kupe se iz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zduh i stv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gativni priti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a podpritiska i nadpritiska poboljšava cirkulaciju, razmenu materija, stvara vazoaktivne materije (serotonin i hista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ati elektronik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a je programirana tako da 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stovremeno da reguliše više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h podpritisaka preko pumpnog sistema u apara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ritiskom od 0,9  do ispod 0,55 atmosfera koje odgovaraju pritisku na visini od oko 5000 met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8-11-19T07:49:07Z</dcterms:modified>
  <cp:revision>87</cp:revision>
  <dc:subject/>
  <dc:title>MEHANOTERAPIJA </dc:title>
</cp:coreProperties>
</file>